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58360" y="965160"/>
            <a:ext cx="9068040" cy="787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lado de Dios hay pa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lado de Dios hay calm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lado de Dios todo mejora, todo se resuel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Cerca de Dios somos felices SIEMPR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86960" y="4025520"/>
            <a:ext cx="891540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uando los niños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 cansa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35040" y="380520"/>
            <a:ext cx="9067680" cy="906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4560" indent="-57132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y vamos a hablar del secreto que Dios les dio a sus hijos para vivir con mucha energía y gozar la vida que él nos da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4560" indent="-57132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ando tenemos mucha energía en nuestro cuerpo y felicidad en el corazón, pasamos días hermosos con nuestros amigos y familiare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4560" indent="-57132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ay otras cosas que nos ponen triste, que nos quitan el ánimo y la energí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4560" indent="-571320">
              <a:spcBef>
                <a:spcPts val="3600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Pero Dios tiene un plan para nuestra felicidad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35040" y="380520"/>
            <a:ext cx="9144000" cy="906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os cristianos sabemos que Dios tiene el poder para ayudarnos con cualquier cosa. Incluso si estamos desanimados o cansado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 Mateo 11:28, Jesús dice: “Vengan a mí, todos los que están cansados y cargados, y yo los haré descansar”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¿Dios quiere que cuando estemos cansados, oremos? ¿Que vayamos a él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¿Qué haces tú cuando estás cansado o estás trist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58720" y="-360"/>
            <a:ext cx="9220320" cy="975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 mayoría de nosotros queremos estar solos, dormir o distraernos, y así  no estar tristes o descansar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ero Dios dice que debemos buscarlo y estar con él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 la vida de Moisés, muchas veces su trabajo se hizo muy difícil siendo el líder de la gente de Dio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n día Moisés estaba rogándole a Dios que acompañara a su gente, pero Dios pensaba que no estaban listos para recibirle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34680" y="304920"/>
            <a:ext cx="8991720" cy="914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unque Moisés estaba triste por su gente, y estaba muy cansado de su trabajo, en su cuerpo y en su corazón, él sí estaba listo para que Dios estuviera con él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os entonces le hizo una promesa: “Yo estaré contigo y te daré descanso”. (Éxodo 33:14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os le prometió a Moisés que él estaría con él y eso le ayudaría a sentir descanso en su corazó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600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Estando cerca de Dios estamos mejor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35040" y="151920"/>
            <a:ext cx="9067680" cy="944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onces lo que Dios le estaba diciendo a Moisés, lo que Jesús quiso decir también, y lo que nos quieren enseñar hoy es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e estando cerca de Dios, orando, cantándole, leyendo la Biblia, hablando de él, descansamo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 otras palabras, cuando estamos lejos de Dios muchas cosas nos molestan, nos cansan, nos quitan la paz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¡Pero en la presencia de Dios hay descanso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35040" y="228240"/>
            <a:ext cx="9067680" cy="899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o fue lo que Dios nos quiere enseñar, que al su lado sentimos descanso, no importa lo que esté pasando, él hace el milagro de que sintamos descan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timos descanso porque nos sentimos atendidos, entendid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timos descanso porque nos sentimos amado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ntimos descanso, porque Dios trae pa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35040" y="380520"/>
            <a:ext cx="9067680" cy="906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rece que cuando tenemos problemas que nos ponen triste, o nos causan ira, lo mejor es buscar estar cerca de Dios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erca de Dios, se calma nuestra mente. Cerca de Dios, encontramos soluciones. Cerca de Dios, vemos que el problema no es tan grande como parece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erca de Dios tenemos acceso as su poder. Él nos ayudará con las cosas que nos hacen sufrir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9:48:54Z</dcterms:created>
  <dc:creator/>
  <dc:description/>
  <dc:language>en-US</dc:language>
  <cp:lastModifiedBy>Freddy Fernandez</cp:lastModifiedBy>
  <dcterms:modified xsi:type="dcterms:W3CDTF">2013-02-28T20:20:42Z</dcterms:modified>
  <cp:revision>11</cp:revision>
  <dc:subject/>
  <dc:title>Slide 1</dc:title>
</cp:coreProperties>
</file>